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3E8-3832-45BC-A694-802D0FEF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673-A9AE-483D-833E-466EB468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05D-972B-44C1-80CB-010F52D2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10D-2DF4-47F5-983B-A953B954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2897-031F-471A-92F8-884A05F6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4B70-2E67-4004-966B-44CD79D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5C70-5FAF-48B7-A3E2-E1AADEF2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242-2829-440C-99A1-588CA39D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B30F-DF33-406A-AD73-2742E59D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930-14B9-464D-877B-41C977CB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9DAB-9EB1-4997-B014-F8E65A3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05D-5F48-433B-8363-FFC7ACE6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B70D-CA36-4273-8EFB-0E37FF9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0EC1-E032-44FB-AC9C-824422AB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8392-B191-4EC3-96BD-0159F6B7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240C-AD66-4F18-85A5-D8A655CE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85E3-731D-4327-9CDC-703CCD9F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4BC-B628-4B2C-B344-48A2841D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0EF-FAC8-4A9F-AF22-6921BFC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9F5-37A7-442A-9C42-331674CA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109-9A66-45F7-B131-B52D5E50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D80-6DE7-4705-93F6-A0C6320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808-623E-4A36-8DBC-9EE87A5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1CB-DCC8-4EAD-9F87-626E0297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7D6A-F65C-4D0B-9F93-F04243F3D9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80C7-C063-4E59-9832-3E71D4D4BD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How did this new learning make a difference in the lives of the children and the lives of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838080"/>
            <a:ext cx="5572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par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8000" spc="-1" strike="noStrike">
                <a:solidFill>
                  <a:srgbClr val="ffff66"/>
                </a:solidFill>
                <a:latin typeface="Arial"/>
              </a:rPr>
              <a:t>Where to from here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130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0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300024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23880" y="41911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Z Traffic Instit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96080" cy="3047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76212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s years them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A dynamic presentation th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‘case study’ Winton School and the implementation of RoadSense Āta Haere through the process of inquiry lear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start to interact with teachers differently in wider curriculum appl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portray LTNZ as ‘cutting edg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7960" y="1219320"/>
            <a:ext cx="392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be presented in the context of en education conference/s in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may be used in other contexts by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be capable of being put on the update RoadSense Āta Haere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act as a catalyst for the future purchase of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380880"/>
            <a:ext cx="465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ur presentatio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What is it like for you when you cross the ro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Tell me about a time when you felt safe on the ro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Tell us how RoadSense has changed how you think about road safety and your behaviour around roa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762120"/>
            <a:ext cx="6124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 for stud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234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What does the RoadSense Āta Haere strategy mean to schoo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Describe how the inquiry model has made a difference to RoadSense Āta Haere and Winton School?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838080"/>
            <a:ext cx="7743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 for Maureen or Andre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460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In what ways have the tools of inquiry learning in RoadSense changed the capabilities of teachers and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685800"/>
            <a:ext cx="5572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Andre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In what ways have the tools of inquiry learning in RoadSense changed the attitudes and thinking skills of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685800"/>
            <a:ext cx="481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staff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4495680"/>
            <a:ext cx="4648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In what ways have the tools of inquiry learning in RoadSense changed the attitudes and thinking skills of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76212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Fento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338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06:28:51Z</dcterms:created>
  <dc:creator>Educating NZ</dc:creator>
  <dc:description/>
  <dc:language>en-US</dc:language>
  <cp:lastModifiedBy>Educating NZ</cp:lastModifiedBy>
  <dcterms:modified xsi:type="dcterms:W3CDTF">2008-08-03T23:02:42Z</dcterms:modified>
  <cp:revision>5</cp:revision>
  <dc:subject/>
  <dc:title>What’s the fuss all about?</dc:title>
</cp:coreProperties>
</file>